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92C-1030-482F-B0F9-90B7C42A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0B0-E3A7-4D10-9764-947E4B53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A70-8776-4139-B494-FAB1A7C2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A57-B8AA-44D2-B906-AADDFD91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5BE-38CE-45A5-AC8E-00B7BB6A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38C-A6A9-49B6-9415-003F4FFE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7EB-453D-4111-A778-510D0D66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232-0BC4-4FEC-ADAD-4EB7B2D6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8DF-D6DE-4EAE-97BB-76185F51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608-898D-4DFC-A36E-20F67F32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B59-4F4C-4957-AD20-000C43BA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491-27B1-4293-8ED2-E9AC23F3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5CB7-A9EE-405D-9ACE-4BC822D2C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ea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Got food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0"/>
            <a:ext cx="2286000" cy="2362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6415200"/>
            <a:ext cx="2666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y: Brian Walk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1066680"/>
            <a:ext cx="2438280" cy="228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conclusion was correct, The Guys in my experiment did eat faster than girls. I found the individual speeds of each person I tested then found an average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Guy speed was 8.4606min. Or 507.64 se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Girl speed was 11.3344 min. or 680.064 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143000"/>
            <a:ext cx="58676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you ever wondered who eats faster, guys or girls?  Well if you’ve ever had the same random thought as I did, then your probably going to like my project and if you haven’t then you’ll like it any way! Just kidding but look at my project ple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5486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ssst…..It’s the best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0"/>
            <a:ext cx="3519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troduct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does gender have on eating sp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guys will eat faster than girls because they need more calories than girls so it is just natural to eat faster. Also, I think girls tend to talk more when they’re e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been proven that girls, on average, talk 3 times more than boys on a normal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r orange actually tends to give the feeling of being full, while the color red makes you hungry. (look at the color of my sl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est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cell phone (stop wat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Observe 5 guys and girls eating, separately, and record their sp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rite down my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Add all times together and figure a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Maybe do additional testing (all males vs. all females) to see what happens as an additional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1(male) time: 9 min 16.67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2(female) time 14 min. 56.82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3(male) time 10 min 51.37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4(female) time 11 min. 19.49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5(male) time 8 min. 29.78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6(female) time 9 min. 7.10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7(male) time 7 min. 34.57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8(female) time 11min. 2.94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9(male) time 6min. 5.81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10( female) time10min. 13.97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800600" y="1447920"/>
          <a:ext cx="4038480" cy="4525200"/>
        </p:xfrm>
        <a:graphic>
          <a:graphicData uri="http://schemas.openxmlformats.org/drawingml/2006/table">
            <a:tbl>
              <a:tblPr/>
              <a:tblGrid>
                <a:gridCol w="581760"/>
                <a:gridCol w="749520"/>
                <a:gridCol w="1045440"/>
                <a:gridCol w="650880"/>
                <a:gridCol w="1010880"/>
              </a:tblGrid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rl's Spe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y's Spe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min. 56.82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min. 16.67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min. 19.49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min. 51.37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min.7.10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min. 29.78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min. 2.94 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min. 34.57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min. 13.97 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min.5.81 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3344 mi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4606- mi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5334120" y="548640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rls tend to talk a lot more and also use their phones more, (this is just from the first 2 subj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most of the time the girls tended to talk more with girls, and guys with gu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5:23:11Z</dcterms:created>
  <dc:creator>USD376</dc:creator>
  <dc:description/>
  <dc:language>en-US</dc:language>
  <cp:lastModifiedBy>USD376</cp:lastModifiedBy>
  <dcterms:modified xsi:type="dcterms:W3CDTF">2010-04-30T19:43:28Z</dcterms:modified>
  <cp:revision>34</cp:revision>
  <dc:subject/>
  <dc:title>Slide 1</dc:title>
</cp:coreProperties>
</file>